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143E-6408-4C56-94B0-AD76D9AD75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68F7-2378-40B3-A34F-882050F2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5BAE-2DD9-4575-94EC-124D9386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6637-ABF6-42F4-A4DC-85B2269EEC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3E09-263A-4A8C-A028-703DC2D1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D88A-F496-4BA6-961C-23C668C2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0C39-4E1D-46F3-9D7E-3D43BC73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D0E2-4890-473B-A76A-9B54DEAA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23F6-319A-47EB-BAD0-1624C82C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357C4-D9AB-439F-B47A-32EE62D9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E3F0-6EA5-4A78-888D-455BAC47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BC18-B5D1-4334-8FC9-7F38FE23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A5AC-729F-42E5-9305-0C6E0AD398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e230c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537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41240" y="134136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摸背”：健侧手在身体后方握住患侧手，帮助患侧手一同向上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爬墙”动作：面向或侧向墙站立，患侧上肢伸直上举或外展，手指尽量向上爬至最高点处，保持数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操棒练习：双手持木棒，健侧手帮助患侧手，使患肩做前屈、后伸、外展等动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吊环、绕环、肩梯、拉力器等训练肩关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术：通过对肩关节的摆动、滚动、推动、旋转、分离和牵拉等，起到缓解疼痛、促进关节液流动、松解组织粘连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射疗法：具有消炎止痛、消除组织水肿的作用，可用于肩周炎的急、慢性期疼痛较明显时。注射治疗之前，要仔细寻找压痛点。注射点一般在肱二头肌长头腱（结节间沟）、短头腱（喙突）及冈上肌、肩胛骨内侧缘、肩胛下角、三角肌内外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09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选择肩部的穴位，每次选择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个穴位，每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起到活血止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按摩：在肩部实施按揉、弹拨、点压、摇晃等手法进行治疗，具有松解粘连、缓解肌肉痉挛、镇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10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良肢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变生活及工作中的不良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患颈椎病或肩关节劳损、损伤后应及时治疗。中老年人应经常做各种有利于维持和改善肩关节活动范围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肩关节周围炎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肩周炎功能障碍的临床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肩周炎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周围炎，简称肩周炎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多发生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左右的中老年人，俗称“五十肩”，亦称“冻结肩”。大多起病缓慢，病程较长。其确切病因至今尚不十分清楚。一般认为，肩关节周围组织退行性变，在受凉、慢性劳损、扭伤等外因的作用下，导致肩关节周围肌肉、肌腱、滑膜、韧带及关节囊等软组织发生慢性无菌性炎症，其结果导致关节内外广泛粘连，肩关节活动功能逐渐受限，直至盂肱关节活动范围完全丧失，形成冻结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本病的病程大致可分三个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（疼痛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冻结期（粘连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恢复期（解冻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4" name="Picture 10" descr="201208~1"/>
          <p:cNvPicPr/>
          <p:nvPr/>
        </p:nvPicPr>
        <p:blipFill>
          <a:blip r:embed="rId1"/>
          <a:stretch/>
        </p:blipFill>
        <p:spPr>
          <a:xfrm>
            <a:off x="5364000" y="3068640"/>
            <a:ext cx="285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：是肩周炎早期最主要的临床表现，是患者就诊的主要原因，常在活动时、夜间疼痛加重，甚至夜不能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活动受限：是肩周炎的典型体征，以外展上举和后伸受限明显，是由于肩关节周围肌肉、肌腱、滑囊和关节囊等软组织粘连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肌力减弱：病程长者可出现肩关节周围、上臂的肌力减弱，甚至肌肉萎缩，是由于肩关节活动受限所导致的废用性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活动范围的评定：采用量角器对肩关节前屈、后伸、外展及内外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综合性评定：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stant-Murle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法，此法是一个全面、科学而又简便的方法。总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共包括四个部分，即：疼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日常生活活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关节活动度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肌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活护理：避免劳累，注意局部保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：早期疼痛明显者需用三角巾悬吊，并可酌情服用非甾体类抗炎药，以消炎镇痛，缓解肌肉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治疗：可改善局部血液和淋巴液循环，加强代谢，消除水肿，促进炎症吸收，缓解肌肉痉挛，从而减轻和消除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dma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钟摆运动：适用于肩周炎早期的自我治疗。患者向前体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健侧手支撑在椅背上，患侧上肢下垂，手持重物，并向前后、内外摆动，或做“画圈”样摆动；活动幅度由小到大，逐步增加负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168720" cy="2352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7236000" y="5661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5964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钟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5640" y="1197000"/>
            <a:ext cx="76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肩周炎保健操：主要动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前上举：双臂伸直，健侧手握住患侧手，经身体前方上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图6-4"/>
          <p:cNvPicPr/>
          <p:nvPr/>
        </p:nvPicPr>
        <p:blipFill>
          <a:blip r:embed="rId1"/>
          <a:stretch/>
        </p:blipFill>
        <p:spPr>
          <a:xfrm>
            <a:off x="1116000" y="2322360"/>
            <a:ext cx="6624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4:56Z</dcterms:modified>
  <cp:revision>4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